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ammer.wav" ContentType="audio/x-wav"/>
  <Override PartName="/ppt/media/arrow.wav" ContentType="audio/x-wav"/>
  <Override PartName="/ppt/media/applause.wav" ContentType="audio/x-wav"/>
  <Override PartName="/ppt/media/drumroll.wav" ContentType="audio/x-wav"/>
  <Override PartName="/ppt/media/image6.png" ContentType="image/png"/>
  <Override PartName="/ppt/media/wind.wav" ContentType="audio/x-wav"/>
  <Override PartName="/ppt/media/bomb.wav" ContentType="audio/x-wav"/>
  <Override PartName="/ppt/media/image1.wmf" ContentType="image/x-wmf"/>
  <Override PartName="/ppt/media/image2.wmf" ContentType="image/x-wmf"/>
  <Override PartName="/ppt/media/type.wav" ContentType="audio/x-wav"/>
  <Override PartName="/ppt/media/image3.wmf" ContentType="image/x-wmf"/>
  <Override PartName="/ppt/media/voltage.wav" ContentType="audio/x-wav"/>
  <Override PartName="/ppt/media/image4.wmf" ContentType="image/x-wmf"/>
  <Override PartName="/ppt/media/whoosh.wav" ContentType="audio/x-wav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F8B-BCB3-47E7-9946-C70A500A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993-93F9-4A22-A6A3-FB531262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F2B-6AE0-45F9-B2DD-CDFD98CA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BAB-02F6-429F-B0E9-8864FE78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E65F-5DE9-4CCA-A19A-0AA718E3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7F94-163B-469D-9FBB-D2393B74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D330-50DB-49D2-B243-C959AEF8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D4F5-C6E6-478B-9234-22DD4622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2893-8CA8-4A88-BC33-851D7878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59B6-1DE1-49C6-8867-A9D9CF53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F878-35F5-470C-9F8D-1CA57C06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D0D-FC6E-4FFE-9495-0FF0FBFC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E61A-9920-425F-B665-05AC8F81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113D-B5DE-4E7A-9916-B1A433E9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F84C-583C-4877-B014-019744D0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4834-E887-47A5-B249-15960C5C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84C4-3B44-4F84-A81F-6E86B900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68D-DED8-490E-A9F4-8FB87BF1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EE5-8BAA-423F-B5F0-C31869D5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524-DAE7-4C50-A381-51074D57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424-8293-478B-9A0B-8626973B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08B-C2C6-46CA-8302-E2A785D6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692-0759-4F79-A809-CE0026E0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95F-C547-47D1-8091-A3BC155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FEA2-D01B-48B1-BEA9-69171F5E7F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6245-3892-4E58-8D06-4BF381B1F5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Cody Zukowski ,Nick and Alex Yanosick 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son He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242712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Graham Bell invented the telegraph/teleph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289872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type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rn and whe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Graham Bell  was born in Edinburgh  March 3, 184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248292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hoosh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Graham Bell was a teacher of deaf peo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484360" cy="20365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voltage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’s Fath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Graham Bell’s father was named Alexander Melville Bell. He also taught the deaf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543040" cy="25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lexander Graham Bell was 18 he had been working on a idea of transmitting speech electric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Graham Bell patent for the telephone ( granted in 1876) Became the subject of litiga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hammer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880, France bestowed on Bell the 50,000-franc Volta Prize for his inven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127320" y="616680"/>
            <a:ext cx="184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xander Graham 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n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what we found on Alexander Graham Bell. Thank you for watching our show!!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91040" y="272268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applause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81479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7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8:22:07Z</dcterms:created>
  <dc:creator>Montour School District</dc:creator>
  <dc:description/>
  <dc:language>en-US</dc:language>
  <cp:lastModifiedBy>Montour School District</cp:lastModifiedBy>
  <dcterms:modified xsi:type="dcterms:W3CDTF">2008-04-30T15:39:57Z</dcterms:modified>
  <cp:revision>8</cp:revision>
  <dc:subject/>
  <dc:title>Alexander Graham Bell</dc:title>
</cp:coreProperties>
</file>